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1F52E-178D-4D6A-836F-D1D13945F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F761E-2398-4C2C-A4CF-1047FA2D3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0E6E3-5B90-4FE7-9AD2-6F65102E4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A3EEA-741A-407F-8A65-2010A1881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E760F-493A-4340-970D-46A3CEF87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3D059-6F77-44DF-9E3D-E57CF25D3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5BEC8-580D-459B-8DDF-97D946020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EC216-D24C-41B3-AF03-6C5B54E01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76326-EECF-4EF8-8038-BD8A7E330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A2843-882F-4861-9E2D-FCB94D322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39B35-9335-4DC3-89BF-5FCF08346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19779-0CEC-422E-9E55-3E837B385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5F4F8-539B-4117-A9D1-A5E1365976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280" y="1052280"/>
            <a:ext cx="799308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Видовой состав обитателей аквариума в зависимости от возраста детей (программа). Паспорта 5-ти аквариумных рыбкам (гуппи, меченосец, барбус, сомик, любая разновидность золотой рыбки</a:t>
            </a:r>
            <a:r>
              <a:rPr b="0" i="1" lang="ru-RU" sz="32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484360" y="4581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Выполнил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Герасимова Маш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" dur="5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Барбус солнечны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Arial"/>
              </a:rPr>
              <a:t>Семейство: карпов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Arial"/>
              </a:rPr>
              <a:t>Продолжительность жизни: 3-5 л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Arial"/>
              </a:rPr>
              <a:t>Размер: 3-5 с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Arial"/>
              </a:rPr>
              <a:t>Температура воды: 18-22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Arial"/>
              </a:rPr>
              <a:t>Совместимость: мирн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Arial"/>
              </a:rPr>
              <a:t>Способ размножения: икромечущ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6227640" y="5013360"/>
            <a:ext cx="212256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2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7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0" dur="5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3" dur="5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6" dur="5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9" dur="500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Arial"/>
              </a:rPr>
              <a:t>Телескоп красны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Семейство: карпов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Продолжительность жизн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Размер: до 25 с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Температура воды: 15-30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Совместимость: мирн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Способ размножения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5508720" y="4581360"/>
            <a:ext cx="2981160" cy="205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1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6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9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2" dur="5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5" dur="50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8" dur="500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68360" y="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СПАСИБО ЗА ВНИМАНИЕ!!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5" dur="5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Программа Марковская «Уголок природы в детском саду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ff"/>
                </a:solidFill>
                <a:uFillTx/>
                <a:latin typeface="Arial"/>
              </a:rPr>
              <a:t>II </a:t>
            </a:r>
            <a:r>
              <a:rPr b="1" lang="ru-RU" sz="2800" spc="-1" strike="noStrike" u="sng">
                <a:solidFill>
                  <a:srgbClr val="0000ff"/>
                </a:solidFill>
                <a:uFillTx/>
                <a:latin typeface="Arial"/>
              </a:rPr>
              <a:t>младшая группа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.: Золотая рыбка, карас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ff"/>
                </a:solidFill>
                <a:uFillTx/>
                <a:latin typeface="Arial"/>
              </a:rPr>
              <a:t>Средняя группа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.: разновидности золотой рыбки (кроме вуалехвоста и телескоп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ff"/>
                </a:solidFill>
                <a:uFillTx/>
                <a:latin typeface="Arial"/>
              </a:rPr>
              <a:t>Старшая группа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.: разновидности золотой рыбки-вуалехвост, телескоп, монет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ff"/>
                </a:solidFill>
                <a:uFillTx/>
                <a:latin typeface="Arial"/>
              </a:rPr>
              <a:t>Подготовительная группа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.: тепловодные рыбы (живородящие, лабиринтовые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8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1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4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7" dur="5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Во 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II </a:t>
            </a: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младшей групп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39640" y="1267920"/>
            <a:ext cx="822960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Arial"/>
              </a:rPr>
              <a:t>Дети должны знать рыб, живущих в уголке приро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ff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Arial"/>
              </a:rPr>
              <a:t>Знать самые характерные особенности внешнего ви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ff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Arial"/>
              </a:rPr>
              <a:t>Знать основную пищу уголка приро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cc00"/>
                </a:solidFill>
                <a:latin typeface="Arial"/>
              </a:rPr>
              <a:t>В средней групп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94920" y="1268280"/>
            <a:ext cx="830268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Закреплять названия тех рыб, с которыми знакомили детей в младшей группе, отмечая существенные их признаки (тело рыб овальной формы, покрыто блестящей чешуёй; на спине, животе и хвосте расположены плавники; рыбы бывают большие и маленькие, разные по окраске; плавая, они то поднимаются вверх, то опускаются вниз, на дно аквариум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Продолжать воспитывать интерес и любовь к рыбкам, бережное отношение к ним, желание наблюдать и ухажива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cccc"/>
                </a:solidFill>
                <a:latin typeface="Arial"/>
              </a:rPr>
              <a:t>В старшей групп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Arial"/>
              </a:rPr>
              <a:t>Педагог учит устанавливать сходство во внешнем виде и повадках ры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ff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Arial"/>
              </a:rPr>
              <a:t>Необходимо углублять интерес к рыбам, желание длительно наблюдать и ухаживать за ни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99"/>
                </a:solidFill>
                <a:latin typeface="Arial"/>
              </a:rPr>
              <a:t>В подготовительной групп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30268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Углублять знания детей о внешнем виде и повадках рыб (у рыб глаза без век, в аквариуме рыбы находятся в разных слоях воды, одни содержатся стайкой, другие – поодиночк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Педагог углубляет знания о размножении (одни рыбы рождают живых мальков, другие ухаживают за икрой, строят для этого гнёзд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Дети должны знать, что рыбы нуждаются в создании разных условий жиз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Дошкольники учатся устанавливать общие понятия: холодноводные и теплолюбивые рыб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Гупп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Семейство: Пецилиев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Продолжительность жизни: 3-4 го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Размер: 3-8 с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Температура воды: 18-30С (лучше 23-2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Совместимость: мирн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Способ размножения: живородящ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5580000" y="4533840"/>
            <a:ext cx="3097440" cy="21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" dur="5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" dur="5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" dur="500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cccc"/>
                </a:solidFill>
                <a:latin typeface="Arial"/>
              </a:rPr>
              <a:t>Меченосе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Семейство: Пецилиев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Продолжительность жизни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Размер: 6-12 с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Температура воды: 22-26С (хорошо переносит понижение до 15С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Совместимость:мирн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Способ размножения: живородящ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56360" y="5106960"/>
            <a:ext cx="2496960" cy="15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8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3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6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9" dur="5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2" dur="5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5" dur="500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омик золотисты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Семейство: Панцир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Продолжительность жизни: 2-3 го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Размер: 6-7с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Температура воды: 23-28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Совместимость: мирн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Способ размножения: икромечущ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292720" y="4437000"/>
            <a:ext cx="3451320" cy="23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0T17:36:36Z</dcterms:created>
  <dc:creator>User</dc:creator>
  <dc:description/>
  <dc:language>en-US</dc:language>
  <cp:lastModifiedBy>ПМНО</cp:lastModifiedBy>
  <dcterms:modified xsi:type="dcterms:W3CDTF">2010-05-28T09:01:20Z</dcterms:modified>
  <cp:revision>13</cp:revision>
  <dc:subject/>
  <dc:title>Видовой состав обитателей аквариума в зависимости от возраста детей (программа). Паспорта 5-ти аквариумных рыбкам (гуппи, меченосец, барбус, сомик, любая разновидность золотой рыбки) </dc:title>
</cp:coreProperties>
</file>